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30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32.pct" ContentType="image/x-pict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1.pct" ContentType="image/x-pict"/>
  <Override PartName="/ppt/media/image34.png" ContentType="image/png"/>
  <Override PartName="/ppt/media/image12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2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557B-80D3-456C-8131-3098AAF0A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67F5-73DB-4D95-A49B-A0E71F268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BF8D-566D-4DF5-B52F-0DD2D5DA8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AEC8-8047-4575-BCC0-D16DCC4A5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6BEE-179D-4856-B3A6-03E292F7F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A15A-71B2-45DF-8BE5-E2D14539F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D62F-08F6-4B4D-9B3A-8E24B0829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5832-E402-4BD4-8C32-29BEA5697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B168-60C7-4680-AAC0-BBF4DC020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ACC2-9C87-4597-B44F-66022D525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ECB5-23D8-4E56-82F4-E2C2DFAA8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0022-8355-4404-BD03-208C4524F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C442-E558-4D40-9348-A2588BD46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8D7C-FC97-4172-A45F-C9ADD4C95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00FB-2AD9-4249-88ED-D5C9C8C04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0EF9-FCA2-4F1A-A050-B5DEC0473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0BE1-9177-4F1D-9886-35B2301EE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1031-670F-43AC-920C-F1E276B01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629B-0FAE-4241-9A47-BDD0D480D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6ADD-D405-4500-BF1B-E5CE351B9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27E-5D41-4CA1-9176-9DF6BC73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2CF-84FE-426A-A66E-2AF31D6D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A7A-A160-428C-9B89-2C428CD2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94F-B447-4ABC-8664-1CAF859F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7CAE-36A4-4EB0-8019-E784D637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8D8E-2C50-4718-8E07-7DAD2137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3E0C-7760-4ECF-AF99-92EC86CA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1311-21D9-4388-9129-0D3294B7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38F6-C7F6-4555-8078-94DF3CDE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0C01-BE8C-423C-B757-8E576A95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1C8E-ECC9-4189-A773-542ABBA7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76A-8021-4FAB-9E90-1F90C54A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F4DF-6D29-441C-BE01-06B3C602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36F7-9C52-4BDF-8DF2-10B16C9E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914B-A9B1-471A-8CF1-521E77D9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C7F6-8452-4B87-A9F5-9D4E1D0D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CB54-FDF7-42F6-B3A8-A3B2A666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CD62F-E9EE-4BDD-A948-BB6E2B6B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B1FE-196E-43E2-AB64-F187F33D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2F29-9366-405E-8AD0-BDF4F3BF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19C7-6B54-46FB-A936-2E442B51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8635C-0F08-478C-BAC6-30538808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91E-BF71-4175-90E5-7A66A132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38D58-9C07-4962-97FD-03C40F8A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61C7B-B067-465A-A911-01BEC8CA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AC18C-130F-4663-8B4B-7E07D308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949C-9280-4CB5-A9B3-3A5238BE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7047B-EAA1-47AA-9AC4-004D8F60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9F604-B0E9-4998-83D6-3DB52A12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BF1B7-6144-4200-BB7C-B4DA3905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92C16-DFCC-45AC-96A9-BDBC1B37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42B9A-0C85-4B3D-9465-69F6DE1B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133F0-7F01-4264-95FC-9B0CE877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8D9-8F21-4D77-9F50-3D649DEE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8FCD7-E428-4824-B900-2A9C1264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01350-72B1-429A-B39A-57437C1C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A9390-4AAC-41CA-9FD7-C684FCD2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E2ADE-206B-41C2-BB92-6000ABDA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84FF2-9FFC-41F5-9ABD-1002D0EA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8E9A5-073F-4B4F-A004-790A1E36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06511-EB97-4813-972A-2FB179FA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95C5-3660-4E23-AFC1-9F4551FE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B6240-2B42-4B5D-840C-DABB2A0D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5931F-C492-4120-B856-D044F2BD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7F2-1640-4137-8457-D8D42E5D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23BE0-8B41-410E-B204-E43DB31C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EEC02-EF7B-4DAC-B313-188206C8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0D608-3351-409B-9529-AE4187D0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58767-BF05-492E-A481-33DF44BD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343D3-856F-41E8-A149-52FE2279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3CDD6-A12C-4731-8F4F-ECCC081E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AB4A5-8E53-472D-8280-823AAFC3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7DBD8-EA81-43D6-B6D9-5F8201DF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918B6-B0C6-4E3E-A6F1-4C2E1F07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CB79B-02E2-4D68-8773-D8D00C22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C5B-EC6D-48CF-80E4-3530302D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B640B-4B53-4EDD-96CB-89B7D856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40F78-CBE3-406B-A96F-8418377C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64FA7-1F07-4389-B568-60BAFF8E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BA010-0519-43E8-9345-F6804C15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7C791-04A2-4C48-A4F5-AEFCD209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CE252-920B-4012-ADB4-E5E449D3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1C25C-156D-4477-86B0-F9DE5289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57C43-3B27-4DA4-9A72-648EB351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89415-51B9-41CC-B8EE-05311176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FC36D-43AD-46B3-AA9D-7F9F3CF3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94D-3013-40C2-B621-198B2C27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92E8B-FFDD-41DC-B49F-5838C6A0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4C1AC-C2BF-404F-947D-9F4DBFC3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F6149-CD92-4499-BA45-42833F74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AC5-DA0F-417B-9F47-3B60A09E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487F5-D025-4DE2-9988-930EADC1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29E25-C2AA-4C9C-B0F0-D4727BBD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814DC-E7CE-4520-AE19-7E0FAD00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5F70B-F54B-4E62-A8D1-F16F04DC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3C764-42FD-4A60-8703-FE5FA60C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28E-8318-4A5F-89F6-D666F087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FE0B5-DD4E-4401-9182-0A8A2E5A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F4083-3784-4630-899C-4BBF4A76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939B9-BD7B-40C7-B2E3-3CEFD0F8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A157D-C988-4FEE-AC26-10E141EA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7E594-D369-4417-9E9E-E9C5C644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E49F0-ABCC-4600-8C88-9F1A67D4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484A7-B65A-4BF5-92DC-CF1E5CB9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DDEF-40D0-49C3-AC95-94B101451628}" type="datetime">
              <a:rPr b="0" lang="en-US" sz="10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F484-8E80-44E6-A34A-1CF726E5E8B9}" type="slidenum">
              <a:rPr b="0" lang="en-US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5933-F783-4EC5-9C0E-A59DD8DD1F1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FD49-A231-466E-9C02-8D6E452005A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92" name="Picture 7" descr="Flag.jpg"/>
          <p:cNvPicPr/>
          <p:nvPr/>
        </p:nvPicPr>
        <p:blipFill>
          <a:blip r:embed="rId3"/>
          <a:stretch/>
        </p:blipFill>
        <p:spPr>
          <a:xfrm>
            <a:off x="6804000" y="0"/>
            <a:ext cx="1049400" cy="76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9" descr="torah.jpg"/>
          <p:cNvPicPr/>
          <p:nvPr/>
        </p:nvPicPr>
        <p:blipFill>
          <a:blip r:embed="rId4"/>
          <a:stretch/>
        </p:blipFill>
        <p:spPr>
          <a:xfrm>
            <a:off x="7924680" y="0"/>
            <a:ext cx="935280" cy="819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W Wailing Wall.jpg"/>
          <p:cNvPicPr/>
          <p:nvPr/>
        </p:nvPicPr>
        <p:blipFill>
          <a:blip r:embed="rId5"/>
          <a:stretch/>
        </p:blipFill>
        <p:spPr>
          <a:xfrm>
            <a:off x="7924680" y="990720"/>
            <a:ext cx="993960" cy="83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Abraham.jpg"/>
          <p:cNvPicPr/>
          <p:nvPr/>
        </p:nvPicPr>
        <p:blipFill>
          <a:blip r:embed="rId6"/>
          <a:stretch/>
        </p:blipFill>
        <p:spPr>
          <a:xfrm>
            <a:off x="8077320" y="1981080"/>
            <a:ext cx="787320" cy="971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3DCB-C7C8-4350-A1EB-C136EE89C78C}" type="datetime">
              <a:rPr b="0" lang="en-US" sz="10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DCAE-A598-4CA4-8AF1-11F8A7127D2A}" type="slidenum">
              <a:rPr b="0" lang="en-US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8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F7CB-545B-4EC9-A7AD-F4AEB8466DAB}" type="datetime">
              <a:rPr b="0" lang="en-US" sz="10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F60F-D85B-43A0-8D8B-65C90C97F19C}" type="slidenum">
              <a:rPr b="0" lang="en-US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1335-E65E-49A9-BC90-7E7848793971}" type="datetime">
              <a:rPr b="0" lang="en-US" sz="1000" spc="-1" strike="noStrike">
                <a:solidFill>
                  <a:srgbClr val="eeece1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59F9-D00C-417E-9747-BA9F261D5451}" type="slidenum">
              <a:rPr b="0" lang="en-US" sz="11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35B8-957E-4B87-8288-67E9072DAF2E}" type="datetime">
              <a:rPr b="0" lang="en-US" sz="10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A998-8263-4712-BD76-E24BBA7DAD99}" type="slidenum">
              <a:rPr b="0" lang="en-US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9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1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312" name="Picture 3" descr=""/>
          <p:cNvPicPr/>
          <p:nvPr/>
        </p:nvPicPr>
        <p:blipFill>
          <a:blip r:embed="rId3"/>
          <a:stretch/>
        </p:blipFill>
        <p:spPr>
          <a:xfrm>
            <a:off x="676440" y="1335240"/>
            <a:ext cx="7791120" cy="29383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F731-5F9B-4F53-A728-757A7A8E179C}" type="datetime">
              <a:rPr b="0" lang="en-US" sz="10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DFDB-3B90-4649-8BBE-F91C380453C4}" type="slidenum">
              <a:rPr b="0" lang="en-US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7" descr="Purple Wall.jpg"/>
          <p:cNvPicPr/>
          <p:nvPr/>
        </p:nvPicPr>
        <p:blipFill>
          <a:blip r:embed="rId1"/>
          <a:stretch/>
        </p:blipFill>
        <p:spPr>
          <a:xfrm>
            <a:off x="0" y="0"/>
            <a:ext cx="7162920" cy="5372280"/>
          </a:xfrm>
          <a:prstGeom prst="rect">
            <a:avLst/>
          </a:prstGeom>
          <a:ln w="0">
            <a:noFill/>
          </a:ln>
        </p:spPr>
      </p:pic>
      <p:pic>
        <p:nvPicPr>
          <p:cNvPr id="403" name="Title 1" descr=""/>
          <p:cNvPicPr/>
          <p:nvPr/>
        </p:nvPicPr>
        <p:blipFill>
          <a:blip r:embed="rId2"/>
          <a:stretch/>
        </p:blipFill>
        <p:spPr>
          <a:xfrm>
            <a:off x="268200" y="5224320"/>
            <a:ext cx="6145200" cy="7984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304560" y="5952600"/>
            <a:ext cx="601956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59436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</a:rPr>
              <a:t>BUBBLU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6" name="Picture 19" descr="rabbi.jpg"/>
          <p:cNvPicPr/>
          <p:nvPr/>
        </p:nvPicPr>
        <p:blipFill>
          <a:blip r:embed="rId3"/>
          <a:stretch/>
        </p:blipFill>
        <p:spPr>
          <a:xfrm>
            <a:off x="6553080" y="137160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0" descr="Happy.jpg"/>
          <p:cNvPicPr/>
          <p:nvPr/>
        </p:nvPicPr>
        <p:blipFill>
          <a:blip r:embed="rId4"/>
          <a:stretch/>
        </p:blipFill>
        <p:spPr>
          <a:xfrm>
            <a:off x="4724280" y="4724280"/>
            <a:ext cx="2681280" cy="18288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04920" y="3885840"/>
            <a:ext cx="5943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2dcdb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4187520"/>
            <a:ext cx="5943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2dcdb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04920" y="4492440"/>
            <a:ext cx="5943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2dcdb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aning “the fulfillment of a commandment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n this case, the first commandment of the Torah: “Be fruitful and multiply” as it related to marriage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Here the wedding symbolizes the transition from the basic Jewish institution of home and to the responsibility for the welfare of the community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457200" y="6008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&gt;Back to Religious Practi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st the belief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6840" y="1447920"/>
            <a:ext cx="708660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ssov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commemorates the Exodus from Egypt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celebrated for 7-8 days, usually over Easter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breads and grains are avoided during this   holiday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Jewish law prevents people going to work or school during the first two and last two days of Passover.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40" name="Picture 4" descr="meal"/>
          <p:cNvPicPr/>
          <p:nvPr/>
        </p:nvPicPr>
        <p:blipFill>
          <a:blip r:embed="rId1"/>
          <a:stretch/>
        </p:blipFill>
        <p:spPr>
          <a:xfrm>
            <a:off x="6018120" y="0"/>
            <a:ext cx="3125880" cy="2060640"/>
          </a:xfrm>
          <a:prstGeom prst="rect">
            <a:avLst/>
          </a:prstGeom>
          <a:ln w="0">
            <a:noFill/>
          </a:ln>
        </p:spPr>
      </p:pic>
      <p:pic>
        <p:nvPicPr>
          <p:cNvPr id="441" name="WordArt 6" descr=""/>
          <p:cNvPicPr/>
          <p:nvPr/>
        </p:nvPicPr>
        <p:blipFill>
          <a:blip r:embed="rId2"/>
          <a:stretch/>
        </p:blipFill>
        <p:spPr>
          <a:xfrm>
            <a:off x="219240" y="444600"/>
            <a:ext cx="5657760" cy="67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6840" y="1447920"/>
            <a:ext cx="708660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24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osh Hashana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1f497d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Jewish New Year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1f497d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Jews make resolutions and reflect on the                     past year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1f497d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Jews begin making mental preparations for Yom Kippur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1f497d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Worship takes place in the synagogues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WordArt 6"/>
          <p:cNvSpPr txBox="1"/>
          <p:nvPr/>
        </p:nvSpPr>
        <p:spPr>
          <a:xfrm>
            <a:off x="228600" y="457200"/>
            <a:ext cx="563868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latin typeface="+mj-lt"/>
              </a:rPr>
              <a:t>Religious Celebrations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latin typeface="+mj-lt"/>
              <a:ea typeface="+mj-lt"/>
            </a:endParaRPr>
          </a:p>
        </p:txBody>
      </p:sp>
      <p:pic>
        <p:nvPicPr>
          <p:cNvPr id="444" name="Picture 4" descr="BD06455_"/>
          <p:cNvPicPr/>
          <p:nvPr/>
        </p:nvPicPr>
        <p:blipFill>
          <a:blip r:embed="rId1"/>
          <a:stretch/>
        </p:blipFill>
        <p:spPr>
          <a:xfrm>
            <a:off x="7086600" y="4038480"/>
            <a:ext cx="1889280" cy="187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6840" y="1447920"/>
            <a:ext cx="708660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24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m Kipp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Jewish day of atonement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a day of fasting and repentance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takes place in late September or early October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most Jews take off from work and school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1624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c6c6c"/>
                </a:solidFill>
                <a:latin typeface="Trebuchet MS"/>
              </a:rPr>
              <a:t>starts the evening before the day it is listed on the Secular calendar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WordArt 6"/>
          <p:cNvSpPr txBox="1"/>
          <p:nvPr/>
        </p:nvSpPr>
        <p:spPr>
          <a:xfrm>
            <a:off x="228600" y="457200"/>
            <a:ext cx="563868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latin typeface="+mj-lt"/>
              </a:rPr>
              <a:t>Religious Celebrations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latin typeface="+mj-lt"/>
              <a:ea typeface="+mj-lt"/>
            </a:endParaRPr>
          </a:p>
        </p:txBody>
      </p:sp>
      <p:pic>
        <p:nvPicPr>
          <p:cNvPr id="447" name="Picture 3" descr="BD08208_"/>
          <p:cNvPicPr/>
          <p:nvPr/>
        </p:nvPicPr>
        <p:blipFill>
          <a:blip r:embed="rId1"/>
          <a:stretch/>
        </p:blipFill>
        <p:spPr>
          <a:xfrm>
            <a:off x="7315200" y="3276720"/>
            <a:ext cx="1674720" cy="180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6840" y="1447920"/>
            <a:ext cx="708660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1624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anukka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0120" indent="-223920">
              <a:lnSpc>
                <a:spcPct val="90000"/>
              </a:lnSpc>
              <a:spcBef>
                <a:spcPts val="1500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festival of lights 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10120" indent="-223920">
              <a:lnSpc>
                <a:spcPct val="90000"/>
              </a:lnSpc>
              <a:spcBef>
                <a:spcPts val="1500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commemorates the rededication of the temple of Jerusalem 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10120" indent="-223920">
              <a:lnSpc>
                <a:spcPct val="90000"/>
              </a:lnSpc>
              <a:spcBef>
                <a:spcPts val="1500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the menorah represents the one day’s 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supply of oil that lasted the Jews eight 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days during their fight against the 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Greeks.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10120" indent="-223920">
              <a:lnSpc>
                <a:spcPct val="90000"/>
              </a:lnSpc>
              <a:spcBef>
                <a:spcPts val="1500"/>
              </a:spcBef>
              <a:buClr>
                <a:srgbClr val="8064a2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celebrated by lighting candles, playing 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games for chocolate coins, eating 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latkes, and the exchange of gifts 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amongst immediate family member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WordArt 6"/>
          <p:cNvSpPr txBox="1"/>
          <p:nvPr/>
        </p:nvSpPr>
        <p:spPr>
          <a:xfrm>
            <a:off x="228600" y="457200"/>
            <a:ext cx="563868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latin typeface="+mj-lt"/>
              </a:rPr>
              <a:t>Religious Celebrations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latin typeface="+mj-lt"/>
              <a:ea typeface="+mj-lt"/>
            </a:endParaRPr>
          </a:p>
        </p:txBody>
      </p:sp>
      <p:pic>
        <p:nvPicPr>
          <p:cNvPr id="450" name="Picture 3" descr="large menorah"/>
          <p:cNvPicPr/>
          <p:nvPr/>
        </p:nvPicPr>
        <p:blipFill>
          <a:blip r:embed="rId1"/>
          <a:stretch/>
        </p:blipFill>
        <p:spPr>
          <a:xfrm>
            <a:off x="6973920" y="0"/>
            <a:ext cx="2170080" cy="268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Tahoma"/>
              </a:rPr>
              <a:t>“</a:t>
            </a:r>
            <a:r>
              <a:rPr b="1" lang="en-US" sz="2600" spc="-1" strike="noStrike">
                <a:solidFill>
                  <a:srgbClr val="333333"/>
                </a:solidFill>
                <a:latin typeface="Tahoma"/>
              </a:rPr>
              <a:t>For billions, Jerusalem is not just sand and stone but sacred--a place of the world, and beyond it. </a:t>
            </a:r>
            <a:r>
              <a:rPr b="0" lang="en-US" sz="2600" spc="-1" strike="noStrike">
                <a:solidFill>
                  <a:srgbClr val="333333"/>
                </a:solidFill>
                <a:latin typeface="Tahoma"/>
              </a:rPr>
              <a:t>One man, Jesus warned, cannot serve two masters. Yet Jerusalem is sacred stone and soil to Jew and Christian and Muslim alike” (Woodward, 2000, p.28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Tahoma"/>
              </a:rPr>
              <a:t>Judaism is a significant religion to many people around the world and has left its mark upon today’s worl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udents must include information in their Bubblus to show mastery of the objectives set forth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udents must show that they can create a graphic organizer to reveal their knowledge of the five categories presented in this PowerPoint on Judaism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80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You will be graded on the completion of your Bubblus and how accurately you include the information gathered from this PowerPoint and any other accurate sources that you read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Bubblus must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the five categories/bubbles...........…25 pt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 minimum of four bubbles off of the main categories/bubbles, thus creating subcategori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30 p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 minimum of two bubbles off of the subcategories..............................…………...20 p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ccurate information.......……….......25 p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........................……………………….…100 p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itle 3" descr=""/>
          <p:cNvPicPr/>
          <p:nvPr/>
        </p:nvPicPr>
        <p:blipFill>
          <a:blip r:embed="rId1"/>
          <a:stretch/>
        </p:blipFill>
        <p:spPr>
          <a:xfrm>
            <a:off x="457200" y="-3049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228240" y="914400"/>
            <a:ext cx="7467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llins, K. (2011). 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The Torah in Modern Scholarship.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Retrieved October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9, 2011, from Ken Collins.com: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ttp://www.kencollins.com/bible/bible-p2.ht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shbane, M. (2011, Sept 22). The life cycle of holiness. Retrieved from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ttp://scheinerman.net/judaism/Rituals/index.htm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ich, T. (2011). A Gentile’s guide to the Jewish Holidays. Judaism 101.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trieved November 1, 2011 from,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ttp://www.jewfaq.org/holidayg.ht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The Torah: Five books of story, law, and property.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(n.d.). Retrieved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October 29, 2011, from My Jewish Learning: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ttp://www.myjewishlearning.com/texts/Bible/Torah.shtm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Woodward, K. (2000). A city that echoes eternity. Newsweek. Vol. 136,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ssue 4. Retrieved November 5th, 2011 from,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ttp://web.ebscohost.com.ezproxy.mtsu.edu/ehost/resultsadvanced?sid=49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6" descr="Woman.jpg"/>
          <p:cNvPicPr/>
          <p:nvPr/>
        </p:nvPicPr>
        <p:blipFill>
          <a:blip r:embed="rId1"/>
          <a:stretch/>
        </p:blipFill>
        <p:spPr>
          <a:xfrm>
            <a:off x="3200400" y="609480"/>
            <a:ext cx="990720" cy="10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2" name="Title 2" descr=""/>
          <p:cNvPicPr/>
          <p:nvPr/>
        </p:nvPicPr>
        <p:blipFill>
          <a:blip r:embed="rId2"/>
          <a:stretch/>
        </p:blipFill>
        <p:spPr>
          <a:xfrm>
            <a:off x="-36360" y="3638520"/>
            <a:ext cx="8126280" cy="26892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3" descr="Wailing Wall.jpg"/>
          <p:cNvPicPr/>
          <p:nvPr/>
        </p:nvPicPr>
        <p:blipFill>
          <a:blip r:embed="rId3"/>
          <a:stretch/>
        </p:blipFill>
        <p:spPr>
          <a:xfrm>
            <a:off x="4419720" y="609480"/>
            <a:ext cx="1379520" cy="9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4" name="Picture 18" descr="Jews.jpg"/>
          <p:cNvPicPr/>
          <p:nvPr/>
        </p:nvPicPr>
        <p:blipFill>
          <a:blip r:embed="rId4"/>
          <a:stretch/>
        </p:blipFill>
        <p:spPr>
          <a:xfrm>
            <a:off x="4419720" y="1676520"/>
            <a:ext cx="1371600" cy="98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5" name="Picture 19" descr="Whitehouse.jpg"/>
          <p:cNvPicPr/>
          <p:nvPr/>
        </p:nvPicPr>
        <p:blipFill>
          <a:blip r:embed="rId5"/>
          <a:stretch/>
        </p:blipFill>
        <p:spPr>
          <a:xfrm>
            <a:off x="3200400" y="1752480"/>
            <a:ext cx="1068480" cy="9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ate the significance of Judais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ll what Judaism means to yo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nderstand the main doctrine that Judaism is focused on: The Torah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e familiar with major events that took place shaping Judais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prehend Jewish practices and law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now the major beliefs that govern Judais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now the main holidays that Jews celebrat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560" y="1609560"/>
            <a:ext cx="739116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word Torah is Hebrew for ‘teaching’ or ‘law’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first five books of the Bible are called the Torah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orah can also refer to all Jewish law and teaching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ses wrote the Torah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Torah retell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Trebuchet MS"/>
              </a:rPr>
              <a:t>God’s creation of the world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Trebuchet MS"/>
              </a:rPr>
              <a:t>The selection and growth of the family of Abraham and Sarah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Trebuchet MS"/>
              </a:rPr>
              <a:t>The exile and redemption from Egypt of that “family –become-nation” known as Israel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Trebuchet MS"/>
              </a:rPr>
              <a:t>Israel’s wanderings through the desert until they return to the land of Canaan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Trebuchet MS"/>
              </a:rPr>
              <a:t>Israel’s covenanted relationship with God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Trebuchet MS"/>
              </a:rPr>
              <a:t>God’s  rules for governing a just society and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Trebuchet MS"/>
              </a:rPr>
              <a:t>God’s rules for establishing appropriate worship.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ke a timeline of the important historical ev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4" name="Group 85" descr=""/>
          <p:cNvPicPr/>
          <p:nvPr/>
        </p:nvPicPr>
        <p:blipFill>
          <a:blip r:embed="rId2"/>
          <a:stretch/>
        </p:blipFill>
        <p:spPr>
          <a:xfrm>
            <a:off x="384120" y="3206880"/>
            <a:ext cx="8375760" cy="245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09200"/>
            <a:ext cx="723888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wish ritual and religious observances are grounded in Jewish Law, </a:t>
            </a: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Halakhah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aning “the path one walks”.</a:t>
            </a: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elow are the three most common Jewish practices observ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rit Mila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r Mitzva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itzva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685800" y="593244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isit Rabbi Scheinerman’s Judaism website to discover other Jewish practice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609200"/>
            <a:ext cx="723888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aning “Covenant of Circumcision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is ceremony confirms the transition of the male infant from being a child of Adam, to a member of the Jewish people thus entering the “covenant of Abraham”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Upon the birth of a male child, circumcision can be expected before 8 days has expired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430" name="TextBox 1"/>
          <p:cNvSpPr/>
          <p:nvPr/>
        </p:nvSpPr>
        <p:spPr>
          <a:xfrm>
            <a:off x="457200" y="6008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&gt;Back to Religious Practi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aning “son of the commandments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rom youth, a boy will not formally be a member of the Halakhic community until he turns thirteen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is ceremony bestows full responsibility and devotion on learning the Torah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same ceremony for girls is called </a:t>
            </a:r>
            <a:r>
              <a:rPr b="0" i="1" lang="en-US" sz="2300" spc="-1" strike="noStrike">
                <a:solidFill>
                  <a:srgbClr val="6c6c6c"/>
                </a:solidFill>
                <a:latin typeface="Trebuchet MS"/>
              </a:rPr>
              <a:t>bat mitzvah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, meaning “daughter of the commandments”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457200" y="6008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&gt;Back to Religious Practi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yan  Rafacz</cp:lastModifiedBy>
  <dcterms:modified xsi:type="dcterms:W3CDTF">2011-11-05T14:46:45Z</dcterms:modified>
  <cp:revision>9</cp:revision>
  <dc:subject/>
  <dc:title>PowerPoint Presentation</dc:title>
</cp:coreProperties>
</file>